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C38-B9EA-4866-9778-1DD064BF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C32-4C72-43AD-B4ED-F33583B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DF9-7A02-40E5-A290-3ABBF6E2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8E4-2E84-4B96-8C20-208D06CD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DE3-241A-4644-AA33-F70DB6FA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3B2-4976-4C0D-A001-F867FC4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B65-6B32-4C3E-819E-09D684E1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E8D-2AAE-4CAF-A35F-2AB5BAB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19D-B33A-498A-A2F7-D8B62E8D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52B-12A2-4C0B-AF2B-37D06B0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036-2790-4523-BBC8-BE3E717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0B8-B6EF-4C26-A60B-8E4C1FB9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CCC-8A7F-4F81-8368-19654B00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90920" y="3352680"/>
            <a:ext cx="6781680" cy="3505320"/>
            <a:chOff x="2590920" y="3352680"/>
            <a:chExt cx="6781680" cy="3505320"/>
          </a:xfrm>
        </p:grpSpPr>
        <p:sp>
          <p:nvSpPr>
            <p:cNvPr id="43" name=""/>
            <p:cNvSpPr/>
            <p:nvPr/>
          </p:nvSpPr>
          <p:spPr>
            <a:xfrm>
              <a:off x="2590920" y="3352680"/>
              <a:ext cx="6781680" cy="3505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rcRect l="3229" t="22785" r="7942" b="3796"/>
            <a:stretch/>
          </p:blipFill>
          <p:spPr>
            <a:xfrm>
              <a:off x="2857680" y="3543480"/>
              <a:ext cx="6286320" cy="33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7315200" y="4267080"/>
            <a:ext cx="167652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886200" y="456840"/>
            <a:ext cx="358128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19885800">
            <a:off x="1887480" y="1668600"/>
            <a:ext cx="5337360" cy="3876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3400" y="2971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37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280" y="2971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6840" y="38545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820 Cheese 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heddar WI, 87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02720" y="6858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3640" y="16002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3640" y="11113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6440" y="1568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485.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41040" y="11113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,077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41040" y="6476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1,728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90920" y="3352680"/>
            <a:ext cx="6781680" cy="3505320"/>
            <a:chOff x="2590920" y="3352680"/>
            <a:chExt cx="6781680" cy="3505320"/>
          </a:xfrm>
        </p:grpSpPr>
        <p:sp>
          <p:nvSpPr>
            <p:cNvPr id="49" name=""/>
            <p:cNvSpPr/>
            <p:nvPr/>
          </p:nvSpPr>
          <p:spPr>
            <a:xfrm>
              <a:off x="2590920" y="3352680"/>
              <a:ext cx="6781680" cy="3505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rcRect l="3229" t="22785" r="7942" b="3796"/>
            <a:stretch/>
          </p:blipFill>
          <p:spPr>
            <a:xfrm>
              <a:off x="2857680" y="3543480"/>
              <a:ext cx="6286320" cy="33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6324480"/>
            <a:ext cx="167652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76520" y="914400"/>
            <a:ext cx="5943600" cy="541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90920" y="3352680"/>
            <a:ext cx="6781680" cy="3505320"/>
            <a:chOff x="2590920" y="3352680"/>
            <a:chExt cx="6781680" cy="3505320"/>
          </a:xfrm>
        </p:grpSpPr>
        <p:sp>
          <p:nvSpPr>
            <p:cNvPr id="58" name=""/>
            <p:cNvSpPr/>
            <p:nvPr/>
          </p:nvSpPr>
          <p:spPr>
            <a:xfrm>
              <a:off x="2590920" y="3352680"/>
              <a:ext cx="6781680" cy="3505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rcRect l="3229" t="22785" r="7942" b="3796"/>
            <a:stretch/>
          </p:blipFill>
          <p:spPr>
            <a:xfrm>
              <a:off x="2857680" y="3543480"/>
              <a:ext cx="6286320" cy="33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743200" y="6324480"/>
            <a:ext cx="42670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676160" y="2133360"/>
            <a:ext cx="1904760" cy="41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3400" y="2971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37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280" y="2971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90920" y="3352680"/>
            <a:ext cx="6781680" cy="3505320"/>
            <a:chOff x="2590920" y="3352680"/>
            <a:chExt cx="6781680" cy="3505320"/>
          </a:xfrm>
        </p:grpSpPr>
        <p:sp>
          <p:nvSpPr>
            <p:cNvPr id="66" name=""/>
            <p:cNvSpPr/>
            <p:nvPr/>
          </p:nvSpPr>
          <p:spPr>
            <a:xfrm>
              <a:off x="2590920" y="3352680"/>
              <a:ext cx="6781680" cy="3505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rcRect l="3229" t="22785" r="7942" b="3796"/>
            <a:stretch/>
          </p:blipFill>
          <p:spPr>
            <a:xfrm>
              <a:off x="2857680" y="3543480"/>
              <a:ext cx="6286320" cy="33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 flipH="1" flipV="1">
            <a:off x="1905120" y="34290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4191120"/>
            <a:ext cx="335268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2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3400" y="2971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37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280" y="2971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90920" y="3352680"/>
            <a:ext cx="6781680" cy="3505320"/>
            <a:chOff x="2590920" y="3352680"/>
            <a:chExt cx="6781680" cy="3505320"/>
          </a:xfrm>
        </p:grpSpPr>
        <p:sp>
          <p:nvSpPr>
            <p:cNvPr id="77" name=""/>
            <p:cNvSpPr/>
            <p:nvPr/>
          </p:nvSpPr>
          <p:spPr>
            <a:xfrm>
              <a:off x="2590920" y="3352680"/>
              <a:ext cx="6781680" cy="3505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rcRect l="3229" t="22785" r="7942" b="3796"/>
            <a:stretch/>
          </p:blipFill>
          <p:spPr>
            <a:xfrm>
              <a:off x="2857680" y="3543480"/>
              <a:ext cx="6286320" cy="33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 flipH="1" flipV="1">
            <a:off x="2438280" y="403848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4419720"/>
            <a:ext cx="20574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6840" y="38545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820 Cheese 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heddar WI, 87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3400" y="2971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37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280" y="2971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6840" y="38545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820 Cheese 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heddar WI, 87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02720" y="6858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3640" y="16002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3640" y="11113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514600"/>
            <a:ext cx="81536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final Accumulated Earnings from Mickey Mous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ing Record for Quarter Ended December 31,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lace in box 1, 2, and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43200" y="1219320"/>
            <a:ext cx="19810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3400" y="2971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37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280" y="2971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6840" y="38545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820 Cheese 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heddar WI, 87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02720" y="6858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3640" y="16002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3640" y="11113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41040" y="6476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1,728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514600"/>
            <a:ext cx="81536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ogether the Federal Income Tax totals for Mic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’s four Earnings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29400" y="762120"/>
            <a:ext cx="53352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3400" y="2971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637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280" y="2971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6840" y="38545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820 Cheese 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heddar WI, 87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02720" y="6858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3640" y="16002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3640" y="11113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514600"/>
            <a:ext cx="81536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ogether the Social Security Tax totals for Mic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’s four Earnings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53080" y="1294920"/>
            <a:ext cx="6098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41040" y="6476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1,728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41040" y="11113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,077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3400" y="2971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37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280" y="2971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5280" y="1179360"/>
            <a:ext cx="23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isney Clas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1 Oak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. Marys, OH 45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2680" y="6462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2-882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6280" y="2286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21-55-6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6840" y="38545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820 Cheese 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heddar WI, 87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2720" y="6858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3640" y="16002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3640" y="11113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3,51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1040" y="6476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1,728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26440" y="1568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485.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1040" y="11113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,077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514600"/>
            <a:ext cx="81536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ogether the Medicare Tax totals for Mickey  Mous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Earnings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53080" y="175212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1:18:17Z</dcterms:created>
  <dc:creator>Computer Services</dc:creator>
  <dc:description/>
  <dc:language>en-US</dc:language>
  <cp:lastModifiedBy>Computer Services</cp:lastModifiedBy>
  <dcterms:modified xsi:type="dcterms:W3CDTF">2010-04-14T12:10:35Z</dcterms:modified>
  <cp:revision>2</cp:revision>
  <dc:subject/>
  <dc:title>Slide 1</dc:title>
</cp:coreProperties>
</file>